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8E92-E85C-4179-9D50-963DEEE252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D377-E9FD-452C-AE56-3B89A1976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47F0-4F94-4D3E-9C4F-3D1BF433E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DD01-E1D9-44B0-96D6-51D59DA9E6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7E02B-C051-46AA-8DB4-6236452FB3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703A-F385-4D38-A789-FC1B5CFDE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9D85-78B8-46F3-B72A-CCCEF25E2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84A-4B88-4B13-85BC-4B450B52A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CDBA-F8DD-4C6B-9E4C-57B843258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72CF-F736-4731-97DA-8D087B654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D6B2-CE82-4601-989A-A39DF1618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4901-1E57-44DE-B4F6-313A8E0CB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3EED-C7AE-4F2B-9A95-4D706852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31D2-504C-4A02-B18C-7F807199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91A8-BBEA-4610-86BD-44705E7E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9051-BCE4-4393-A89A-400E364F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8D2-8509-4A07-A8FE-4DBD4F51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0EEB-6E4F-4A16-B9A4-58EF5C47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1E9-3BB4-4CDE-8BE1-1296768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538-A005-4D0A-9E3F-AA16E512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EEC-5D85-458B-BFB4-8F56C88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0E18-D601-4537-9579-ED50EF31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795-8FDE-4189-BEB3-CF7ABF74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3278-FE53-4B14-9D72-4DB7084BB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c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Linda Ruas</cp:lastModifiedBy>
  <dcterms:modified xsi:type="dcterms:W3CDTF">2014-12-30T13:28:46Z</dcterms:modified>
  <cp:revision>21</cp:revision>
  <dc:subject/>
  <dc:title>Co-operation or competition?</dc:title>
</cp:coreProperties>
</file>